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6863-12C3-4F47-A5B3-753E93ADB02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fter opening video and discussion about the future of assessment. Talk about that David and I had been on a two conference about one method of introducing portfolios and student lead conferences into sch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E93A-3D0D-424E-9151-7C91CF89BAB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 will briefly explain the 3 types of conferences but won’t go into detail because we are not up to this y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086A-E7EA-4556-A98D-997EF3B3EA0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3449-BD64-4727-A736-3B760F3A031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tarted with the reason for the inclusion of portfolios and student lead interviews. Open up to discussion for any other reasons that might a purpose for doing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8584-1A7E-4626-B986-062B16731A0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y then went on to talk about the things that need to be considered when going down this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5B19-ABE7-45C4-AB5A-C6C4215BE13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ere are examples of areas that we could focus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C7D9-CC42-493C-A75A-9DDC747EF8F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ere is an example of Paul explaining about his portfolio to get us thin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C79E-A91F-48D2-AEA4-3EC134780F5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ere we need to h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356A-847F-43FC-9CEB-0FD3C7088F4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y then talked about how to keep the process going and to keep it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353A-4726-4110-917F-71EA2B0B527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(Put into grps) Jigsaw the activity. They all agree upo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6126-3E55-444E-B8E7-940B5C0E92C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5A8-77EE-45DE-AD55-57D3531D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763-8E7C-49DB-A943-F37FF9CA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90D-E6F7-4059-BCD4-9E918458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B54-4C23-4C6B-B392-46D3F4A0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E7D-D86A-4BE4-891D-DC7326E7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7F98-7334-4245-9514-DA1D1BE4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2AB-E181-47E2-80E6-8BB2BE27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658-7084-4163-8858-89BBF074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0F5-6686-49FC-B973-7C60A924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2B1-E91E-410B-9DD0-E90C1805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CFA-99B6-4757-9573-684548D6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66AA-FA52-4205-AEF0-57300D0F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6B41-2B1A-4B10-BAC2-4483367A02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SSESSING THE WHOLE CHI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Creating Powerful Portfolios and Student Led Con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Jour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1071720" y="1571760"/>
            <a:ext cx="7072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tudent lead conferenc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ormal- Suggested for 5 &amp; 6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rena Style- Second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Expo- Suggested for P-4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ere is it go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1357200" y="1143000"/>
            <a:ext cx="600084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vite teachers to observe a student led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hare formal feed back with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hare a video of a student led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omote what we are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hare resources to improve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ak about your experiences with colleagues, honestly, openly and passion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valuate 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357200" y="2000160"/>
            <a:ext cx="628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id you set out to achieve through developing a portfolio and a student lead confer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oes the portfolio tell people about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o you like most about your portfol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challenged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has the portfolio helped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could you make it more effective if you were to do it aga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surprised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has the portfolio helped you learn about yoursel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Purpose of a student led interview using a portfolio to drive it is to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1143000" y="1857240"/>
            <a:ext cx="721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ift from the learning focus from the teacher to shared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ngage Lea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ive the children the ability to recognise the next steps in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uilds independence and 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udents want their parents to 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cuses on how well the student has been do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tention of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derstanding of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tive use of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571680" y="1285920"/>
            <a:ext cx="7786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Questions to ask about Portfol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oes a authentic student portfolio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is its purpose at Glenferrie Primary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o they have a student voice in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re should we st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will we use? Folders, display books, scrap 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re will they be housed? Chair bags, central contai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materials will be needed? Paper, card, photocopying (colour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st of the materials, does it come from the book list or a curriculum budg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Questions to ask about Student lead Intervie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do we use these portfolios  to drive these interview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n do we do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do we prepare our children for these conferen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re will the interview be he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are the constraints? Timing, ro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pecific Fo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785880" y="785880"/>
            <a:ext cx="7643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will the conference and portfolio target? Below are some ide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yself as  a lear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arning Styl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urriculum goals and ref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ubrics related to topic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planations of feelings related to particular curriculum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sults and reflections of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flections of work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impact attitude has had on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eas for celeb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eas needing strengthening and strategies to assist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yself as a social be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flections on do you want to 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cial goals and ref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operative group work samples and ref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eas for celeb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riendship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ersonality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impact friendship has had on my ability to 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 example of where we may head to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2214720" y="2214720"/>
          <a:ext cx="4570200" cy="3427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214720"/>
                    <a:ext cx="457020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Getting Starte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each children how to self evaluate the skills that they are learning. Start with one dimension and make the learning explic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llect explicit examples of the children explaining the learning process in one dimension. Annodoctal notes or on fil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gree as a staff what we want a portfolio to look lik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1867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alk with students what is learn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is the purpose of our portfoli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hould be in our portfoli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hould work in our portfolio look li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n will be work on our portfoli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ovide a process for the student lead interviews that is clear to the student, parent and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Jour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85680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portfolio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ll of the work in the portfolios will be the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content of the portfolio reflects their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will be discussing with you their reasons for including or excluding items throughout the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are not doing it for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will be using the content to drive their own student lead conference with their par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reakdown of a portfolio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ront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tents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urriculum Goal 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cial Goal 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earning styles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gree upon what you are going to share with other grou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3:20:45Z</dcterms:created>
  <dc:creator>Education</dc:creator>
  <dc:description/>
  <dc:language>en-US</dc:language>
  <cp:lastModifiedBy>Education</cp:lastModifiedBy>
  <dcterms:modified xsi:type="dcterms:W3CDTF">2009-06-01T02:32:01Z</dcterms:modified>
  <cp:revision>14</cp:revision>
  <dc:subject/>
  <dc:title>ASSESSING THE WHOLE CHILD</dc:title>
</cp:coreProperties>
</file>